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7ED-B22A-45C7-8279-A2A772C4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88B-C849-412C-B70D-E944D0D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8CC-D5AB-47C0-95F6-0D0553FA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3DF-FB7B-4024-9A5F-863FA90F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BEF5-7DF0-4C22-9CD1-EC7986F9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3B5B-4512-4FBA-8736-03333052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7FFC-29B4-4C87-9574-BCF4F51D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11CC-30AE-4CEF-9BB5-23C8AC8E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E3B0-3C28-4AB3-8BBF-530B7B5E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A40D-2620-43C9-A5FA-67B2A90E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F312-42F4-4F90-868D-F3A4A0FB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5A6-E151-45DA-B8DE-E757453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1BB3-5EE4-4A1A-A864-2EE3E8DD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7FD-9B2E-4EB9-8915-1CC9886B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4B6E-2030-4EC6-BCBF-22300157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ED22-9254-410F-BB74-8105F354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47AB-EA7B-495B-894B-B39D0E83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695F0-755C-47D6-B735-BFC35638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0E287-8498-46EC-B2DB-DC659404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7AD07-DA98-41A8-8D2F-AE5713AF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54CDC-7E19-4D6D-8ED9-64CDE03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84C4A-DF35-4EA3-9E90-3D32C147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94C-2976-48A8-978A-625AF590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48DF2-CD1F-4728-850A-B9BFAB22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BE3D7-4322-4026-8870-8708A08F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E6FEF-0D0F-4463-83A9-53A52D8C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13BDC-0E76-4FF3-8246-BB332EF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1134C-6BE8-4548-B11D-80C9A3E5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719DF-D1CB-4700-A95B-60C21352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0F5A2-606C-43C3-A548-7D3E8AA7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099-A185-4B6C-BF45-170432E5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8E6-72DB-401B-BC6C-D807E906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26A-BCFF-4A78-9A6B-529DB356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772-3A99-4A99-9E5D-09913A0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D21-73F7-49ED-95D6-4A8BD998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946-A4E6-4B42-AF98-9916AD85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AC1E-CE24-4964-8A96-A68A2538C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EF5A-27AF-4490-908C-1B045EDB1D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3912-694F-45F1-9289-E9658DDBBB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333360"/>
            <a:ext cx="8051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rbeiten bringt Brot - Faulenzen Hungersno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in Erfolg ohne Mühe und Arbei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uf dem Ofen sitzend wird man nicht General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r den Fuchs fangen will, muss mit den Hühnern aufstehe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+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-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 u="sng">
                <a:solidFill>
                  <a:srgbClr val="000000"/>
                </a:solidFill>
                <a:uFillTx/>
                <a:latin typeface="Times New Roman"/>
              </a:rPr>
              <a:t>Rechtsgrundlagen für Schüler-Jobs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Laut Gesetz zum Schutze der arbeitenden Jugend dürfen Kinder unter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14 Jahr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gar nicht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arbei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Jugendliche, die mindestens 15 aber noch nicht 18 Jahre alt sind, können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vier Wochen pro Jahr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in den Ferien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ie tägliche Arbeitszeit darf acht Stunden nicht überschreiten (nicht mehr als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40 Stunden in der Woch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30 Minuten Paus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stehen den Jungendlichen zu, wenn sie mindestens viereinhalb bis sechs Stunden am Tag arbeiten und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60 Minu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, wenn sie mehr als sechs Stunden am Tag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523880" y="907920"/>
          <a:ext cx="7008480" cy="4993920"/>
        </p:xfrm>
        <a:graphic>
          <a:graphicData uri="http://schemas.openxmlformats.org/drawingml/2006/table">
            <a:tbl>
              <a:tblPr/>
              <a:tblGrid>
                <a:gridCol w="1931040"/>
                <a:gridCol w="2741040"/>
                <a:gridCol w="2336400"/>
              </a:tblGrid>
              <a:tr h="16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1042920" y="907920"/>
          <a:ext cx="7635960" cy="4994280"/>
        </p:xfrm>
        <a:graphic>
          <a:graphicData uri="http://schemas.openxmlformats.org/drawingml/2006/table">
            <a:tbl>
              <a:tblPr/>
              <a:tblGrid>
                <a:gridCol w="1513080"/>
                <a:gridCol w="1511280"/>
                <a:gridCol w="461160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Wochen pro Jahr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Minuten oder 60 Minuten Pause am Tag hab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r als 40 Stunden pro Woche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4360" y="620640"/>
            <a:ext cx="76327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1.Ich möchte in den Ferien ………… arbeiten (jobb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2.Ich habe  im Netz eine Anzeige gefunden. Man sucht …………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3.Die Arbeit …….. mir viel Spa</a:t>
            </a:r>
            <a:r>
              <a:rPr b="1" lang="el-GR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4.Ich habe einmal………….. ausgetr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5. Ich w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ürde gern Kontakte ……. fin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de ich einen Job in den Ferien annehmen?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rgumente pro und con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24000" y="105264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4360" y="1413000"/>
          <a:ext cx="7772400" cy="2811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785880" y="10000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Ferienjob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pic>
        <p:nvPicPr>
          <p:cNvPr id="125" name="Picture 4" descr="21_fr_ferienjob"/>
          <p:cNvPicPr/>
          <p:nvPr/>
        </p:nvPicPr>
        <p:blipFill>
          <a:blip r:embed="rId1"/>
          <a:stretch/>
        </p:blipFill>
        <p:spPr>
          <a:xfrm>
            <a:off x="30492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erienjob"/>
          <p:cNvPicPr/>
          <p:nvPr/>
        </p:nvPicPr>
        <p:blipFill>
          <a:blip r:embed="rId2"/>
          <a:stretch/>
        </p:blipFill>
        <p:spPr>
          <a:xfrm>
            <a:off x="5410080" y="3962520"/>
            <a:ext cx="323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Arbeit bedeutet atmen für mich;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wenn ich nicht arbeiten kann,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kann ich nicht atmen!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                             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P</a:t>
            </a: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Picasso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80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atmen -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ыш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b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38080" y="457200"/>
            <a:ext cx="7467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Ferienjob bedeutet einen Job in den Ferie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Aber die Jugendlichen arbeiten nicht nur in den Ferien, sondern auch während des Lernens oder Studiums. Sie machen das gewöhnlich nach den Stunden in den Freizeit oder am Wochenend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zeitungsjunge"/>
          <p:cNvPicPr/>
          <p:nvPr/>
        </p:nvPicPr>
        <p:blipFill>
          <a:blip r:embed="rId1"/>
          <a:stretch/>
        </p:blipFill>
        <p:spPr>
          <a:xfrm>
            <a:off x="5943600" y="4343400"/>
            <a:ext cx="28274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5080" y="126828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en Eltern zu hel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aufzubess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zu verdi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Spaß zu be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Ess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Klamott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177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sest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hr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sen und Geträ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sm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m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657600" y="2286000"/>
            <a:ext cx="1676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 u="sng">
                <a:solidFill>
                  <a:srgbClr val="0000ff"/>
                </a:solidFill>
                <a:uFillTx/>
                <a:latin typeface="Times New Roman"/>
              </a:rPr>
              <a:t>JOB</a:t>
            </a:r>
            <a:r>
              <a:rPr b="1" lang="en-US" sz="3300" spc="-1" strike="noStrike" u="sng">
                <a:solidFill>
                  <a:srgbClr val="0000ff"/>
                </a:solidFill>
                <a:uFillTx/>
                <a:latin typeface="Times New Roman"/>
              </a:rPr>
              <a:t>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838080" y="1447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äu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3520" y="274320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ll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124080" y="685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11280" y="41497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u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30072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isebegl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6705720" y="175248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iefträ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705720" y="30481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umpflege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 flipH="1">
            <a:off x="2124000" y="3429000"/>
            <a:ext cx="1609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26668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457200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5257800" y="3429000"/>
            <a:ext cx="16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5410080" y="2133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 flipH="1" flipV="1">
            <a:off x="2971440" y="19051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410080" y="30481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0" descr="neben_oder_ferienjob_annehm"/>
          <p:cNvPicPr/>
          <p:nvPr/>
        </p:nvPicPr>
        <p:blipFill>
          <a:blip r:embed="rId1"/>
          <a:stretch/>
        </p:blipFill>
        <p:spPr>
          <a:xfrm>
            <a:off x="5791320" y="152280"/>
            <a:ext cx="3352680" cy="1311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70836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s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5:43:58Z</dcterms:created>
  <dc:creator>Ребенко Н. А.</dc:creator>
  <dc:description/>
  <dc:language>en-US</dc:language>
  <cp:lastModifiedBy>ДСК</cp:lastModifiedBy>
  <dcterms:modified xsi:type="dcterms:W3CDTF">2014-02-12T19:56:47Z</dcterms:modified>
  <cp:revision>24</cp:revision>
  <dc:subject/>
  <dc:title>Презентация PowerPoint</dc:title>
</cp:coreProperties>
</file>